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686-180E-4FE7-8618-833418A1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BCE-FE05-4110-84E1-B0D9225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06C-0C27-4B60-88E7-46ED2F44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9CB-BE5E-4B7C-A7AF-65967D19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445-08DE-4BC0-8E58-F619448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2AC-0182-480E-8DDA-9CE8AA81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2D2-9B7F-4887-992C-E8976C2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1F0-0F35-4AAA-A2A4-A74C0F4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B3A-0D48-453A-8BAB-85433AAC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0E0-4CE0-4088-9B38-2AD9C44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EE0-BFF5-4ADF-BCE3-458DBDD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DE4-7E81-4A33-8048-2430C28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C95E-BB6A-4CF5-9062-02BAF671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da.gov.uk/teachers/induction.aspx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s.co.uk/searchResults.aspx?area=all&amp;keywords=nqt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rkfieldict.co.uk/ictcompanion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reesoftwareforstudents.org.uk/index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s.co.uk/download.aspx?storycode=6024972&amp;type=W&amp;id=3029483" TargetMode="External"/><Relationship Id="rId2" Type="http://schemas.openxmlformats.org/officeDocument/2006/relationships/hyperlink" Target="http://www.tes.co.uk/download.aspx?storycode=6024972&amp;type=W&amp;id=3029484" TargetMode="External"/><Relationship Id="rId3" Type="http://schemas.openxmlformats.org/officeDocument/2006/relationships/hyperlink" Target="http://www.tes.co.uk/download.aspx?storycode=6024972&amp;type=W&amp;id=3029485" TargetMode="External"/><Relationship Id="rId4" Type="http://schemas.openxmlformats.org/officeDocument/2006/relationships/hyperlink" Target="http://www.tes.co.uk/download.aspx?storycode=6024972&amp;type=W&amp;id=3029486" TargetMode="External"/><Relationship Id="rId5" Type="http://schemas.openxmlformats.org/officeDocument/2006/relationships/hyperlink" Target="http://www.tes.co.uk/download.aspx?storycode=6024972&amp;type=W&amp;id=3029487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i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 reflect on the first ½ term – what’s worked and hasn'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ok at useful web sites and share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ikispaces for NQ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ome Ideas….gam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ustomising S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ess i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-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y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404640"/>
            <a:ext cx="59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QTs IC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gfl-cymru.org.uk/eng/vtc-home/vtc-aas-home/vtc-as_a-ic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6250" t="11788" r="4496" b="5508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0624" t="13929" r="5120" b="6335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5194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ict.co.u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ty.wikispaces.com/ks3i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285" t="12586" r="4965" b="6684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127" t="13585" r="3127" b="76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050920" y="595008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da.gov.uk/teachers/induction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539" t="11611" r="3127" b="5710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353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82bgeeky.co.uk/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3127" t="14564" r="9391" b="7683"/>
          <a:stretch/>
        </p:blipFill>
        <p:spPr>
          <a:xfrm>
            <a:off x="0" y="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in 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609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s.co.uk/searchResults.aspx?area=all&amp;keywords=nq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3127" t="11611" r="3127" b="5710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566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rkfieldict.co.uk/ictcompan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12586" r="6984" b="7683"/>
          <a:stretch/>
        </p:blipFill>
        <p:spPr>
          <a:xfrm>
            <a:off x="324000" y="476280"/>
            <a:ext cx="7848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reesoftwareforstudents.org.uk/index.htm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965" t="12586" r="4965" b="6684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ames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hat2learn.com/games/play/16935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5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hat2learn.com/games/play/16937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7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hat2learn.com/games/play/16938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8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hat2learn.com/games/play/16939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9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hat2learn.com/games/play/16940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40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2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ctgoodies.com/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3585" r="5696" b="9637"/>
          <a:stretch/>
        </p:blipFill>
        <p:spPr>
          <a:xfrm>
            <a:off x="-54000" y="0"/>
            <a:ext cx="9198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270" t="13585" r="6445" b="6079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5661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erngrid.org/ngflwebsite/sennew/teacher_resources/ict/i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37:32Z</dcterms:created>
  <dc:creator>Thomas</dc:creator>
  <dc:description/>
  <dc:language>en-US</dc:language>
  <cp:lastModifiedBy> </cp:lastModifiedBy>
  <dcterms:modified xsi:type="dcterms:W3CDTF">2009-10-23T07:50:14Z</dcterms:modified>
  <cp:revision>11</cp:revision>
  <dc:subject/>
  <dc:title>Slide 1</dc:title>
</cp:coreProperties>
</file>